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39C-A397-48A1-B01B-185487724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eight of hand - chebi is not currently disentan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mean when we say we get rid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vs essenti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ou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: nothing is being removed from ontology, only enha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te==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F0B-7949-4C65-969E-4C209AE3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313-990F-4CAF-9CDC-2709716A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640-47A6-4D50-81F3-61CA7C84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0F0-F635-4FB7-815D-51CEC1CE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3C9-2D80-4DB9-84DD-C3C5D23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A66-3160-4089-BBE8-E65A4396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ECD-07F2-447A-BAAC-EF8696D1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797-C2BB-4B0E-AF58-663D23AC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ADA-BD36-4EA1-AAF3-5119D469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941-A3BE-4F08-A472-2E659D59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3EF-56F0-4FC3-BCCE-94739D6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CE7-2FB6-487E-B171-4350094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9BE-9EEC-4DFB-8575-FA6188FD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uri.lbl.gov/amigo/obo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pre-coordin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synthesi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language (Aristotelian style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ro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in Obo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8991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GO:0009058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9070 ! serine family amino acid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6534 ! cysteine metabo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lternate syntax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compa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OWL abstract 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 use Obo1.2 format or natural language in the rest of this pres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81080"/>
            <a:ext cx="8991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cysteine_biosynthesis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biosynthesis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utputs(CHEBI:cyste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is allows us to dynamically untang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axis view (prim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, via generic term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logical_proc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participant axis view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mino aci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rine family amino aci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ed 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same as current tangled diamond lattic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l dem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/amigo/ob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ording the relationship is importa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y not just a simple cross-produc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biosynthes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hips are important for reasoning and query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se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mRNA export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heat str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out the relations, the logical definition is not specific enoug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not captu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 should come from 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e requi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ltiple discriminating characteristics are allow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 from seri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er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83080"/>
            <a:ext cx="853452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 from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input CHEBI:17822   !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be nes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981080"/>
            <a:ext cx="8686800" cy="311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regulation of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50789 ! regulation of biologic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regulates GO:0019344  !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^outputs(cysteine)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)^outputs(cystein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7148160" y="518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ill San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43920" y="563760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optionally be manufactured in bul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ic term: {metabolism,biosynthesis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: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{serine, cysteine, …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ith caution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se vs dense matr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combinations are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the importance of necessary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ersection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not just make normal links in the GO DA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rmal relationships ar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necessar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ecessary and sufficient condition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ptures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e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erms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mplicitl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refer to other 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cystei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biosynth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myobla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hydrogen 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ransporter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snoRN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a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wing dis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ttern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epider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flower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interleukin-18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receptor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B-cell</a:t>
            </a:r>
            <a:r>
              <a:rPr b="0" lang="en-US" sz="2400" spc="-1" strike="noStrike">
                <a:solidFill>
                  <a:srgbClr val="00808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dors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ctod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ormal DAG links only capture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, not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952880"/>
            <a:ext cx="3276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acrophag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distinguishable by DAG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9528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onocyt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590920"/>
            <a:ext cx="247824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5000" y="44197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7242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256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792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8954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934320" y="388584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42200" y="44186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6483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: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17528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133720" y="25146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20520" y="2513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752480" y="2895120"/>
            <a:ext cx="2895840" cy="175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9560" y="35802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285640" y="5028840"/>
            <a:ext cx="21337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2640" y="51044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activ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 of pre-coordinat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already contains composit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6 pre-coordinated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lenced 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which has the quality of being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lenc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-BP/CL integration under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rospectively pre-coordinated term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l page has pre-coordinated terms from automatic pars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ruitfly.org/~cjm/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ordina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in ontology with IDs and computabl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complexity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ity can be managed by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new oboedit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t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combined in th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ces more complexity in database schema and database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coordination is useful in moder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only used terms should be pre-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g cysteine biosynthesis; oocyte differentiation; pectoral 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void taking to extrem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f ICD-9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draw the lin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should be built around one or a few axes of clas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rm ‘explosion’ typically gets large when multiple axes are combin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change our minds la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 and post- coordination is commensur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mensurabi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or annotates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ucleus^part_of(astrocy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editor creates new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boedit 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trocyte_nucleus = nucleus^part_of(astrocyte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can be dynamically ‘promoted’ to new term in answer to que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software techniques for achieving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ordination in GO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 and post- coordination are compatible and commensu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should extend the annotation format to allow denoting more specific clas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lesterol transport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liv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vanced applications can query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 applications suffer no lo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ended annotations can be used to help seed new terms in th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is already being done (MGI,Dic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just want to capture this in interopeable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mposition in gene association fi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column in GA file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819520"/>
          <a:ext cx="8915400" cy="2549520"/>
        </p:xfrm>
        <a:graphic>
          <a:graphicData uri="http://schemas.openxmlformats.org/drawingml/2006/table">
            <a:tbl>
              <a:tblPr/>
              <a:tblGrid>
                <a:gridCol w="2228760"/>
                <a:gridCol w="1733760"/>
                <a:gridCol w="914400"/>
                <a:gridCol w="4038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e 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rm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pe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30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cholesterol transp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ocated_in(MA:l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48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neuron fate develop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icipant(FBbt:Y_neur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atabase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 and GO DB can handle pre- and post- coordin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ory any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yet fully t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onymous term’ created for coordinated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 in chado cv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/modules/cv/doc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64832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2578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000" y="46022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ed terms currently cause proble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link to external ontology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nda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onsiste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ra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bottlenec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 and confusing display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 have no way to disentang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 so far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 errors based on results of term name parsing (Obo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ctive, not proactiv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lution: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ctively manag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mpos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licit 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osed terms should now/soon be coordinated using oboedi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ilding block terms ar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recorded in ontolog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long with composite ter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rect DAG structure can be inferred from extern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make sure GO + CHEBI “alig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cement &amp; consistency checking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ditional work 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, text 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will terms be pre-coordinated by oboed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record a definition for a composite ter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ogical definit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omputation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gical definition consists of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 (aka gen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hips to other terms which serv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is specific term from oth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hildren of the generic term (aka differentia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be written in natural language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 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which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ing 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8-01T00:06:08Z</dcterms:modified>
  <cp:revision>1111</cp:revision>
  <dc:subject/>
  <dc:title>Ontologies for biological annotation</dc:title>
</cp:coreProperties>
</file>